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7.jpeg" ContentType="image/jpeg"/>
  <Override PartName="/ppt/media/image3.png" ContentType="image/png"/>
  <Override PartName="/ppt/media/image26.png" ContentType="image/png"/>
  <Override PartName="/ppt/media/image4.png" ContentType="image/png"/>
  <Override PartName="/ppt/media/image13.jpeg" ContentType="image/jpeg"/>
  <Override PartName="/ppt/media/image27.jpeg" ContentType="image/jpeg"/>
  <Override PartName="/ppt/media/image10.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7.png" ContentType="image/png"/>
  <Override PartName="/ppt/media/image30.jpeg" ContentType="image/jpe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wmf" ContentType="image/x-wmf"/>
  <Override PartName="/ppt/media/image15.jpeg" ContentType="image/jpeg"/>
  <Override PartName="/ppt/media/image16.jpeg" ContentType="image/jpe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media/image24.jpeg" ContentType="image/jpe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C4EEC-6B75-4DB3-87FC-32C96F107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76512-CEF0-4658-8176-DB2602659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F383-B042-4C36-A7F6-1CF0E78B0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8243-CF61-487F-92A4-748112EF7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C81EC-A1BB-479F-A189-52D1F63FA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CF59B-B611-4F67-80AD-03E4D5304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D4106-441A-432D-9FC9-200683641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F7527-B80F-46ED-89AC-80A0A3FCD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21493-6C65-4E44-85F0-50FE71BE8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1CA3C-78F6-4B14-8869-41583EDE0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5EB84-DB2F-41E4-9242-3D6C06866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5315-8BDC-4ED7-8EE2-C1506580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F894-3723-4A52-AF22-BB01DFFA5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E08C-C3F5-43C2-9702-43D3603BC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C4DC7-9DE7-4F0E-AAD4-7F04B23A8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7DC83-7341-415F-9071-7E6725B5B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51508-4B70-4256-B6A9-26DABDA97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CB100-D54A-43BE-85B1-162B0D45AB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B890E-52DC-4EE0-8677-BCD762E65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7D0E7-5573-45DA-B065-2D55F85E6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3384B-5E00-4939-A7B4-FEF2DC724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AC1F6-522A-4428-A71B-26BF4D693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ACB9C-6BC4-44FB-A295-9AA881EF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13F1E6-04FC-49CB-BA87-28DD55F92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D0C93-9627-4E8A-B05C-598E76A8B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41AA9-C8DD-4BD5-BAA7-B066A0C35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78A32-062D-4524-A070-7EBFFA8EB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593B2-003B-401D-B9C4-6971BE012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573AD-006D-4FFE-8E9F-AF6400B02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F7AE6-FC15-47B7-A8DE-BE219748C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D61B-43F6-4278-A805-DEFD2C64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16C3-4E58-4B42-A680-34024E137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721A-EF73-40AC-9C3B-B160B6AE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818F-85E6-40A5-A0D6-C74D5686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47A3-22BE-4334-BD69-5E9E9E25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8835-BE8D-4AD4-A40C-43F2188F4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514D-F75B-432F-999A-2EC6D93629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7757-99D8-4DFE-827A-45FEEA1081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3F9C-BA4E-4E2F-8D55-71D19E2C2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SKyLMUz8RA" TargetMode="External"/><Relationship Id="rId3" Type="http://schemas.openxmlformats.org/officeDocument/2006/relationships/hyperlink" Target="http://brogdonhiphop.blogspot.com/2009/11/how-to-use-picture-for-graffiti-fill-in.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newsletter.kokodatreks.com/007-january_2008.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9240" y="227160"/>
            <a:ext cx="7476840" cy="5868720"/>
          </a:xfrm>
          <a:prstGeom prst="rect">
            <a:avLst/>
          </a:prstGeom>
          <a:ln w="0">
            <a:noFill/>
          </a:ln>
        </p:spPr>
      </p:pic>
      <p:sp>
        <p:nvSpPr>
          <p:cNvPr id="233" name=""/>
          <p:cNvSpPr/>
          <p:nvPr/>
        </p:nvSpPr>
        <p:spPr>
          <a:xfrm>
            <a:off x="900000" y="551664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Graffiti – Art or Vandalism?</a:t>
            </a:r>
            <a:endParaRPr b="0" lang="en-US" sz="3600" spc="-1" strike="noStrike">
              <a:solidFill>
                <a:srgbClr val="000000"/>
              </a:solidFill>
              <a:latin typeface="Arial"/>
            </a:endParaRPr>
          </a:p>
        </p:txBody>
      </p:sp>
      <p:sp>
        <p:nvSpPr>
          <p:cNvPr id="234" name=""/>
          <p:cNvSpPr/>
          <p:nvPr/>
        </p:nvSpPr>
        <p:spPr>
          <a:xfrm>
            <a:off x="684360" y="6308640"/>
            <a:ext cx="748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apted from: http://www.zunal.com/tasks.php?w=39059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re going to explore, investigate, and evaluate different types of graffiti and art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4920" y="1598760"/>
            <a:ext cx="69850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mall group or whole cla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et of criteria for judging i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s </a:t>
            </a:r>
            <a:r>
              <a:rPr b="1" lang="en-US" sz="3200" spc="-1" strike="noStrike">
                <a:solidFill>
                  <a:srgbClr val="ff0066"/>
                </a:solidFill>
                <a:latin typeface="Arial"/>
              </a:rPr>
              <a:t>ART</a:t>
            </a:r>
            <a:r>
              <a:rPr b="0" lang="en-US" sz="3200" spc="-1" strike="noStrike">
                <a:solidFill>
                  <a:srgbClr val="000000"/>
                </a:solidFill>
                <a:latin typeface="Arial"/>
              </a:rPr>
              <a:t> or </a:t>
            </a:r>
            <a:r>
              <a:rPr b="1" lang="en-US" sz="3200" spc="-1" strike="noStrike">
                <a:solidFill>
                  <a:srgbClr val="ff0066"/>
                </a:solidFill>
                <a:latin typeface="Arial"/>
              </a:rPr>
              <a:t>VANDALISM</a:t>
            </a:r>
            <a:endParaRPr b="0" lang="en-US" sz="3200" spc="-1" strike="noStrike">
              <a:solidFill>
                <a:srgbClr val="000000"/>
              </a:solidFill>
              <a:latin typeface="Arial"/>
            </a:endParaRPr>
          </a:p>
        </p:txBody>
      </p:sp>
      <p:sp>
        <p:nvSpPr>
          <p:cNvPr id="25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following pic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ach picture, make a judgmen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ar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vandal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2" name="" descr=""/>
          <p:cNvPicPr/>
          <p:nvPr/>
        </p:nvPicPr>
        <p:blipFill>
          <a:blip r:embed="rId1"/>
          <a:stretch/>
        </p:blipFill>
        <p:spPr>
          <a:xfrm>
            <a:off x="4284720" y="3716280"/>
            <a:ext cx="2951280" cy="26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4" name="" descr=""/>
          <p:cNvPicPr/>
          <p:nvPr/>
        </p:nvPicPr>
        <p:blipFill>
          <a:blip r:embed="rId1"/>
          <a:stretch/>
        </p:blipFill>
        <p:spPr>
          <a:xfrm>
            <a:off x="826920" y="1268280"/>
            <a:ext cx="6048720" cy="4753080"/>
          </a:xfrm>
          <a:prstGeom prst="rect">
            <a:avLst/>
          </a:prstGeom>
          <a:ln w="0">
            <a:noFill/>
          </a:ln>
        </p:spPr>
      </p:pic>
      <p:sp>
        <p:nvSpPr>
          <p:cNvPr id="26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7" name="" descr=""/>
          <p:cNvPicPr/>
          <p:nvPr/>
        </p:nvPicPr>
        <p:blipFill>
          <a:blip r:embed="rId1"/>
          <a:stretch/>
        </p:blipFill>
        <p:spPr>
          <a:xfrm>
            <a:off x="263520" y="1598760"/>
            <a:ext cx="7386480" cy="4497120"/>
          </a:xfrm>
          <a:prstGeom prst="rect">
            <a:avLst/>
          </a:prstGeom>
          <a:ln w="0">
            <a:noFill/>
          </a:ln>
        </p:spPr>
      </p:pic>
      <p:sp>
        <p:nvSpPr>
          <p:cNvPr id="26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0" name="" descr=""/>
          <p:cNvPicPr/>
          <p:nvPr/>
        </p:nvPicPr>
        <p:blipFill>
          <a:blip r:embed="rId1"/>
          <a:stretch/>
        </p:blipFill>
        <p:spPr>
          <a:xfrm>
            <a:off x="263520" y="1598760"/>
            <a:ext cx="7386480" cy="4497120"/>
          </a:xfrm>
          <a:prstGeom prst="rect">
            <a:avLst/>
          </a:prstGeom>
          <a:ln w="0">
            <a:noFill/>
          </a:ln>
        </p:spPr>
      </p:pic>
      <p:sp>
        <p:nvSpPr>
          <p:cNvPr id="27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63520" y="1598760"/>
            <a:ext cx="7386480" cy="4497120"/>
          </a:xfrm>
          <a:prstGeom prst="rect">
            <a:avLst/>
          </a:prstGeom>
          <a:ln w="0">
            <a:noFill/>
          </a:ln>
        </p:spPr>
      </p:pic>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74" name=""/>
          <p:cNvSpPr/>
          <p:nvPr/>
        </p:nvSpPr>
        <p:spPr>
          <a:xfrm>
            <a:off x="4356000" y="6216120"/>
            <a:ext cx="338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ier Lane - 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7" name="" descr=""/>
          <p:cNvPicPr/>
          <p:nvPr/>
        </p:nvPicPr>
        <p:blipFill>
          <a:blip r:embed="rId1"/>
          <a:stretch/>
        </p:blipFill>
        <p:spPr>
          <a:xfrm>
            <a:off x="263520" y="1598760"/>
            <a:ext cx="7386480" cy="4497120"/>
          </a:xfrm>
          <a:prstGeom prst="rect">
            <a:avLst/>
          </a:prstGeom>
          <a:ln w="0">
            <a:noFill/>
          </a:ln>
        </p:spPr>
      </p:pic>
      <p:sp>
        <p:nvSpPr>
          <p:cNvPr id="27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63520" y="1598760"/>
            <a:ext cx="7386480" cy="4497120"/>
          </a:xfrm>
          <a:prstGeom prst="rect">
            <a:avLst/>
          </a:prstGeom>
          <a:ln w="0">
            <a:noFill/>
          </a:ln>
        </p:spPr>
      </p:pic>
      <p:sp>
        <p:nvSpPr>
          <p:cNvPr id="2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63520" y="1598760"/>
            <a:ext cx="7386480" cy="4497120"/>
          </a:xfrm>
          <a:prstGeom prst="rect">
            <a:avLst/>
          </a:prstGeom>
          <a:ln w="0">
            <a:noFill/>
          </a:ln>
        </p:spPr>
      </p:pic>
      <p:sp>
        <p:nvSpPr>
          <p:cNvPr id="28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4"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start have a pen and paper handy to write down any words you don’t understand.</a:t>
            </a:r>
            <a:endParaRPr b="0" lang="en-US" sz="3200" spc="-1" strike="noStrike">
              <a:solidFill>
                <a:srgbClr val="000000"/>
              </a:solidFill>
              <a:latin typeface="Arial"/>
            </a:endParaRPr>
          </a:p>
        </p:txBody>
      </p:sp>
      <p:sp>
        <p:nvSpPr>
          <p:cNvPr id="23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37" name="" descr=""/>
          <p:cNvPicPr/>
          <p:nvPr/>
        </p:nvPicPr>
        <p:blipFill>
          <a:blip r:embed="rId2"/>
          <a:stretch/>
        </p:blipFill>
        <p:spPr>
          <a:xfrm>
            <a:off x="2843280" y="3284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58920" y="1598760"/>
            <a:ext cx="7196040" cy="4497120"/>
          </a:xfrm>
          <a:prstGeom prst="rect">
            <a:avLst/>
          </a:prstGeom>
          <a:ln w="0">
            <a:noFill/>
          </a:ln>
        </p:spPr>
      </p:pic>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7"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58920" y="1598760"/>
            <a:ext cx="7196040" cy="4497120"/>
          </a:xfrm>
          <a:prstGeom prst="rect">
            <a:avLst/>
          </a:prstGeom>
          <a:ln w="0">
            <a:noFill/>
          </a:ln>
        </p:spPr>
      </p:pic>
      <p:sp>
        <p:nvSpPr>
          <p:cNvPr id="28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0"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920" y="1598760"/>
            <a:ext cx="7196040" cy="4497120"/>
          </a:xfrm>
          <a:prstGeom prst="rect">
            <a:avLst/>
          </a:prstGeom>
          <a:ln w="0">
            <a:noFill/>
          </a:ln>
        </p:spPr>
      </p:pic>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3"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263520" y="1598760"/>
            <a:ext cx="7386480" cy="4497120"/>
          </a:xfrm>
          <a:prstGeom prst="rect">
            <a:avLst/>
          </a:prstGeom>
          <a:ln w="0">
            <a:noFill/>
          </a:ln>
        </p:spPr>
      </p:pic>
      <p:sp>
        <p:nvSpPr>
          <p:cNvPr id="2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6"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98" name="" descr=""/>
          <p:cNvPicPr/>
          <p:nvPr/>
        </p:nvPicPr>
        <p:blipFill>
          <a:blip r:embed="rId1"/>
          <a:stretch/>
        </p:blipFill>
        <p:spPr>
          <a:xfrm>
            <a:off x="263520" y="1598760"/>
            <a:ext cx="7386480" cy="4497120"/>
          </a:xfrm>
          <a:prstGeom prst="rect">
            <a:avLst/>
          </a:prstGeom>
          <a:ln w="0">
            <a:noFill/>
          </a:ln>
        </p:spPr>
      </p:pic>
      <p:sp>
        <p:nvSpPr>
          <p:cNvPr id="299"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50920" y="141300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gt;&gt; </a:t>
            </a:r>
            <a:r>
              <a:rPr b="1" lang="en-US" sz="3200" spc="-1" strike="noStrike">
                <a:solidFill>
                  <a:srgbClr val="ff0066"/>
                </a:solidFill>
                <a:latin typeface="Arial"/>
              </a:rPr>
              <a:t>What do you think????</a:t>
            </a:r>
            <a:r>
              <a:rPr b="0" lang="en-US" sz="3200" spc="-1" strike="noStrike">
                <a:solidFill>
                  <a:srgbClr val="000000"/>
                </a:solidFill>
                <a:latin typeface="Arial"/>
              </a:rPr>
              <a:t> &lt;&lt;&lt;</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pic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Vandalis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302" name="" descr=""/>
          <p:cNvPicPr/>
          <p:nvPr/>
        </p:nvPicPr>
        <p:blipFill>
          <a:blip r:embed="rId1"/>
          <a:stretch/>
        </p:blipFill>
        <p:spPr>
          <a:xfrm>
            <a:off x="3276720" y="494172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04" name="PlaceHolder 2"/>
          <p:cNvSpPr>
            <a:spLocks noGrp="1"/>
          </p:cNvSpPr>
          <p:nvPr>
            <p:ph/>
          </p:nvPr>
        </p:nvSpPr>
        <p:spPr>
          <a:xfrm>
            <a:off x="3851280" y="1268280"/>
            <a:ext cx="3798720" cy="4824720"/>
          </a:xfrm>
          <a:prstGeom prst="rect">
            <a:avLst/>
          </a:prstGeom>
          <a:noFill/>
          <a:ln w="0">
            <a:noFill/>
          </a:ln>
        </p:spPr>
        <p:txBody>
          <a:bodyPr lIns="90000" rIns="90000" tIns="46800" bIns="46800" anchor="t">
            <a:normAutofit fontScale="95000"/>
          </a:bodyPr>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w - venture out into the community and photograph graffiti of you own.</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 </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If you can, take a tape measure and measure the size of the graffiti. What it the area? (height x length)</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Does size make a difference if it is classified as Art or Vandalism?</a:t>
            </a:r>
            <a:endParaRPr b="0" lang="en-US" sz="2200" spc="-1" strike="noStrike">
              <a:solidFill>
                <a:srgbClr val="000000"/>
              </a:solidFill>
              <a:latin typeface="Arial"/>
            </a:endParaRPr>
          </a:p>
        </p:txBody>
      </p:sp>
      <p:pic>
        <p:nvPicPr>
          <p:cNvPr id="305" name="" descr=""/>
          <p:cNvPicPr/>
          <p:nvPr/>
        </p:nvPicPr>
        <p:blipFill>
          <a:blip r:embed="rId1"/>
          <a:stretch/>
        </p:blipFill>
        <p:spPr>
          <a:xfrm>
            <a:off x="263520" y="2284560"/>
            <a:ext cx="3616200" cy="312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s examples of graffiti drawing.</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drawn on MS Paint</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n MS Paint: "SPRAY"</a:t>
            </a:r>
            <a:br>
              <a:rPr sz="3200"/>
            </a:br>
            <a:br>
              <a:rPr sz="3200"/>
            </a:br>
            <a:br>
              <a:rPr sz="3200"/>
            </a:br>
            <a:endParaRPr b="0" lang="en-US" sz="3200" spc="-1" strike="noStrike">
              <a:solidFill>
                <a:srgbClr val="000000"/>
              </a:solidFill>
              <a:latin typeface="Arial"/>
            </a:endParaRPr>
          </a:p>
        </p:txBody>
      </p:sp>
      <p:sp>
        <p:nvSpPr>
          <p:cNvPr id="30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many different types of graffiti, thus not all graffiti has the same style.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of  the types are:</a:t>
            </a:r>
            <a:br>
              <a:rPr sz="1800"/>
            </a:br>
            <a:br>
              <a:rPr sz="1800"/>
            </a:br>
            <a:r>
              <a:rPr b="0" lang="en-AU" sz="1800" spc="-1" strike="noStrike" u="sng">
                <a:solidFill>
                  <a:srgbClr val="c1c177"/>
                </a:solidFill>
                <a:uFillTx/>
                <a:latin typeface="Arial"/>
                <a:hlinkClick r:id="rId2"/>
              </a:rPr>
              <a:t>Graffiti Blockbusters</a:t>
            </a:r>
            <a:br>
              <a:rPr sz="1800"/>
            </a:br>
            <a:br>
              <a:rPr sz="1800"/>
            </a:br>
            <a:br>
              <a:rPr sz="1800"/>
            </a:br>
            <a:r>
              <a:rPr b="0" lang="en-AU" sz="1800" spc="-1" strike="noStrike" u="sng">
                <a:solidFill>
                  <a:srgbClr val="c1c177"/>
                </a:solidFill>
                <a:uFillTx/>
                <a:latin typeface="Arial"/>
                <a:hlinkClick r:id="rId3"/>
              </a:rPr>
              <a:t>Fill-Ins - Video </a:t>
            </a:r>
            <a:br>
              <a:rPr sz="1800"/>
            </a:br>
            <a:br>
              <a:rPr sz="1800"/>
            </a:br>
            <a:br>
              <a:rPr sz="1800"/>
            </a:br>
            <a:r>
              <a:rPr b="0" lang="en-AU" sz="1800" spc="-1" strike="noStrike">
                <a:solidFill>
                  <a:srgbClr val="000000"/>
                </a:solidFill>
                <a:latin typeface="Arial"/>
              </a:rPr>
              <a:t>Wildstyle Video</a:t>
            </a:r>
            <a:br>
              <a:rPr sz="1800"/>
            </a:br>
            <a:br>
              <a:rPr sz="1800"/>
            </a:br>
            <a:br>
              <a:rPr sz="1800"/>
            </a:br>
            <a:r>
              <a:rPr b="0" lang="en-AU" sz="1800" spc="-1" strike="noStrike">
                <a:solidFill>
                  <a:srgbClr val="000000"/>
                </a:solidFill>
                <a:latin typeface="Arial"/>
              </a:rPr>
              <a:t>Throw-Ups  Video</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30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a:t>
            </a:r>
            <a:br>
              <a:rPr sz="2800"/>
            </a:br>
            <a:r>
              <a:rPr b="0" lang="en-US" sz="2800" spc="-1" strike="noStrike">
                <a:solidFill>
                  <a:srgbClr val="000000"/>
                </a:solidFill>
                <a:latin typeface="Arial"/>
              </a:rPr>
              <a:t>Blockbusters</a:t>
            </a:r>
            <a:endParaRPr b="0" lang="en-US" sz="2800" spc="-1" strike="noStrike">
              <a:solidFill>
                <a:srgbClr val="000000"/>
              </a:solidFill>
              <a:latin typeface="Arial"/>
            </a:endParaRPr>
          </a:p>
        </p:txBody>
      </p:sp>
      <p:pic>
        <p:nvPicPr>
          <p:cNvPr id="312" name="" descr=""/>
          <p:cNvPicPr/>
          <p:nvPr/>
        </p:nvPicPr>
        <p:blipFill>
          <a:blip r:embed="rId2"/>
          <a:stretch/>
        </p:blipFill>
        <p:spPr>
          <a:xfrm>
            <a:off x="2916360" y="1557360"/>
            <a:ext cx="4727520" cy="44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39" name="PlaceHolder 2"/>
          <p:cNvSpPr>
            <a:spLocks noGrp="1"/>
          </p:cNvSpPr>
          <p:nvPr>
            <p:ph/>
          </p:nvPr>
        </p:nvSpPr>
        <p:spPr>
          <a:xfrm>
            <a:off x="250920" y="1267920"/>
            <a:ext cx="738648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the name for images or lettering scratched, scrawled, painted or marked in any manner on proper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any type of public markings that may appear in the forms of simple written words to elaborate wall paintings. It is also a type of typ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as existed since ancient times, with examples dating back to Ancient Greece and the Roman Emp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Ins – </a:t>
            </a:r>
            <a:br>
              <a:rPr sz="2800"/>
            </a:br>
            <a:r>
              <a:rPr b="0" lang="en-US" sz="2800" spc="-1" strike="noStrike">
                <a:solidFill>
                  <a:srgbClr val="000000"/>
                </a:solidFill>
                <a:latin typeface="Arial"/>
              </a:rPr>
              <a:t>Video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15" name="" descr=""/>
          <p:cNvPicPr/>
          <p:nvPr/>
        </p:nvPicPr>
        <p:blipFill>
          <a:blip r:embed="rId2"/>
          <a:stretch/>
        </p:blipFill>
        <p:spPr>
          <a:xfrm>
            <a:off x="2340000" y="1413000"/>
            <a:ext cx="5040360" cy="479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7"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ldstyle </a:t>
            </a:r>
            <a:br>
              <a:rPr sz="2800"/>
            </a:br>
            <a:r>
              <a:rPr b="0" lang="en-AU" sz="2800" spc="-1" strike="noStrike">
                <a:solidFill>
                  <a:srgbClr val="000000"/>
                </a:solidFill>
                <a:latin typeface="Arial"/>
              </a:rPr>
              <a:t>Video</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318" name="" descr=""/>
          <p:cNvPicPr/>
          <p:nvPr/>
        </p:nvPicPr>
        <p:blipFill>
          <a:blip r:embed="rId2"/>
          <a:stretch/>
        </p:blipFill>
        <p:spPr>
          <a:xfrm>
            <a:off x="2484360" y="1371600"/>
            <a:ext cx="4896000" cy="472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2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w-Ups  </a:t>
            </a:r>
            <a:br>
              <a:rPr sz="2800"/>
            </a:br>
            <a:r>
              <a:rPr b="0" lang="en-US" sz="2800" spc="-1" strike="noStrike">
                <a:solidFill>
                  <a:srgbClr val="000000"/>
                </a:solidFill>
                <a:latin typeface="Arial"/>
              </a:rPr>
              <a:t>Video</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 descr=""/>
          <p:cNvPicPr/>
          <p:nvPr/>
        </p:nvPicPr>
        <p:blipFill>
          <a:blip r:embed="rId2"/>
          <a:stretch/>
        </p:blipFill>
        <p:spPr>
          <a:xfrm>
            <a:off x="2916360" y="1197000"/>
            <a:ext cx="4657680" cy="489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263520" y="1598760"/>
            <a:ext cx="646920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re we are at 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a:t>
            </a:r>
            <a:r>
              <a:rPr b="0" lang="en-US" sz="3200" spc="-1" strike="noStrike">
                <a:solidFill>
                  <a:srgbClr val="ff0066"/>
                </a:solidFill>
                <a:latin typeface="Arial"/>
              </a:rPr>
              <a:t>YOU</a:t>
            </a:r>
            <a:r>
              <a:rPr b="0" lang="en-US" sz="3200" spc="-1" strike="noStrike">
                <a:solidFill>
                  <a:srgbClr val="000000"/>
                </a:solidFill>
                <a:latin typeface="Arial"/>
              </a:rPr>
              <a:t> deci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ffiti </a:t>
            </a:r>
            <a:endParaRPr b="0" lang="en-US" sz="3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R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VANDALISM</a:t>
            </a:r>
            <a:endParaRPr b="0" lang="en-US" sz="3600" spc="-1" strike="noStrike">
              <a:solidFill>
                <a:srgbClr val="000000"/>
              </a:solidFill>
              <a:latin typeface="Arial"/>
            </a:endParaRPr>
          </a:p>
        </p:txBody>
      </p:sp>
      <p:sp>
        <p:nvSpPr>
          <p:cNvPr id="32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Websites</a:t>
            </a:r>
            <a:endParaRPr b="0" lang="en-US" sz="4000" spc="-1" strike="noStrike">
              <a:solidFill>
                <a:srgbClr val="30605a"/>
              </a:solidFill>
              <a:latin typeface="Arial"/>
            </a:endParaRPr>
          </a:p>
        </p:txBody>
      </p:sp>
      <p:sp>
        <p:nvSpPr>
          <p:cNvPr id="3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logster.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affiticreator.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asygraffititext.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oltext.com/Graffiti-Creator-But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7" name=""/>
          <p:cNvGraphicFramePr/>
          <p:nvPr/>
        </p:nvGraphicFramePr>
        <p:xfrm>
          <a:off x="263520" y="1268280"/>
          <a:ext cx="8412120" cy="4897440"/>
        </p:xfrm>
        <a:graphic>
          <a:graphicData uri="http://schemas.openxmlformats.org/drawingml/2006/table">
            <a:tbl>
              <a:tblPr/>
              <a:tblGrid>
                <a:gridCol w="2803680"/>
                <a:gridCol w="2805120"/>
                <a:gridCol w="28033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 Reads and views a range of texts containing some ideas and issues of social/cultural interest and more complex text structures and language features and explains possible reasons for different interpretations of tex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3 Reads and views a range of texts containing multiple social and cultural perspectives and examines personal and diverse understandings of the contemporary worl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3 Reads and views a range of texts containing challenging ideas and issues and multiple views of the past, present and future and examines some relationships between texts, contexts, readers and producers of text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7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including examining past, present and future perspectives (eg in discussion groups, reading to the aged in the community) [F]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texts in a variety of ways (eg takes notes, presents a report, conducts a survey, discusses photograph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erges and manipulates images to present research findings (eg uses a concept map, visual text, statistics, chart, electronic slide show) [T] [C] [KC1]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awareness of audience (eg identifies the target audience for magazines, discussing layout, format, photographs, stereotyping). [Id] [T] [KC1]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with visiting authors, selecting magazines, books/videos in a shop)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discusses the topic, produces a report, compiles interview question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on diverse futures perspectives (eg in a webpage, report, article) [F] [In] [T]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through an examination of underlying values (eg compares and analyses perspectives about an Aboriginal issue reported in commercial media compared to public and Aboriginal media). [Id] [T] [KC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views films and videos that contain challenging issues, performs with peers, reads and comments on billboards in the community) [In]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compares texts set in different times and places, accounting for similarities and differences; researches to compare fictional and factual accounts) [In] [T] [C]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eg grids, charts or interactive simulation formats for comparative displays) [C] [KC1] [KC2] [KC5]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eg by comparing and evaluating for bias or stereotyping). [T] [C]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9" name=""/>
          <p:cNvGraphicFramePr/>
          <p:nvPr/>
        </p:nvGraphicFramePr>
        <p:xfrm>
          <a:off x="263520" y="1268280"/>
          <a:ext cx="8556480" cy="5062680"/>
        </p:xfrm>
        <a:graphic>
          <a:graphicData uri="http://schemas.openxmlformats.org/drawingml/2006/table">
            <a:tbl>
              <a:tblPr/>
              <a:tblGrid>
                <a:gridCol w="2852640"/>
                <a:gridCol w="2851200"/>
                <a:gridCol w="285264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 Composes a range of texts that include ideas and information about familiar and some unfamiliar topics and applies an understanding of audience, purpose and context.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4 Composes a range of texts that include detailed information and explore different perspectives about a range of issues and adjusts texts for particular audiences, purposes and contex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4 Composes a range of texts that include detailed information and explore different perspectives about diverse topics or issues and adjusts the text to produce an intended effect upon the audience.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xamines purposes for writing (eg to persuade an audience to buy a product)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constructs and communicates texts appropriately (eg an argument stating the issue, presenting a position and making recommendation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discusses whether an advertisement would still retain its integrity if the age, gender, culture of the characters were changed)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 range of software applications in planning, drafting, editing and presenting texts (eg uses a word processor to construct a letter to the editor)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keeps a record of the kinds of texts written, the audience and the purpose, to ensure variety). [Id]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scribes the purpose for writing (eg discusses similarities and differences in texts with the same theme)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constructs texts appropriately (eg a research report with material relevant to the topic, diagrams, statistical representations, appropriate organisation and presentation) [T]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nt (eg attracts audience attention through dramatic effect when setting the scene for a myster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an electronic product with more sophisticated use of text, graphics and audio (eg e-mail to construct a letter to the editor, software to interpret and represent data)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editor uses a checklist for editing).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the purpose for writing (eg an argument in relation to the positive and negative aspects of an issu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ppropriate digital and animation products (eg includes digital photographs in a repor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onstructs the text (eg a biography with accurate information and appropriate planning and organisation)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a science fiction story which alters stereotypical roles to suit a particular audience)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 (eg incorporates group feedback).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Language</a:t>
            </a:r>
            <a:endParaRPr b="0" lang="en-US" sz="2400" spc="-1" strike="noStrike">
              <a:solidFill>
                <a:srgbClr val="000000"/>
              </a:solidFill>
              <a:latin typeface="Arial"/>
            </a:endParaRPr>
          </a:p>
        </p:txBody>
      </p:sp>
      <p:graphicFrame>
        <p:nvGraphicFramePr>
          <p:cNvPr id="331" name=""/>
          <p:cNvGraphicFramePr/>
          <p:nvPr/>
        </p:nvGraphicFramePr>
        <p:xfrm>
          <a:off x="324000" y="1197000"/>
          <a:ext cx="8496000" cy="517212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 Selects and uses most aspects of language when producing a variety of spoken texts appropriate for a wide range of school and community audience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6 Controls and adjusts most aspects of language when producing a variety of spoken texts for a wider range of school and appropriate community audienc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6 Manipulates language when producing a variety of spoken texts appropriate for an extended range of school and community audienc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social contexts (eg can compare the language in a play from an earlier period in time with language used toda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an take turns at the appropriate time in a script)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tape records instructions for a game)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when referring to a friend can use a metaphor such as ‘She is an angel’)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posture, facial expression and gesture to engage the listener in a role-play) [C]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introduces themselves to a new class member, may say ‘Hi, my name is …’, but when introducing new student to class in a prepared biographical introduction, may say ‘Good morning everyone, I would like to introduce …’)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uses appropriate cues to begin and finish speech/report to class in a group task/panel presentatio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reports to another group in a jigsaw or envoy task, produces a multimedia presentation for students starting Year 8/new to the school about transition issues or a survival guide)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describes a product or community organisation in a positive way using personification-a telephone as a lifeline, the genre that binds society/helping hand)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rhythm, pace, gestures, emphasis, pauses to present a dramatic reading of a ballad).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addresses a class group in order to introduce a guest speaker, and invites questions afterwards before concluding with a vote of thanks)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larifies a required spoken task by summarising and restating in own words what the task involve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ideas and information (eg uses idioms such as ‘pull yourself together’, ‘don’t let it get you down’, ‘just do it’ in a mock conversation ‘pep talk’ with themselves, and compares with the way a team captain or a public figure may address a group) [Id]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in a dramatic reading of a text, uses eye contact, pause, variation of tone and voice to engage audience interes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develops interactive chatrooms, interviews other students on a topical school or community issue, and reports conclusions to a principal in an interview or makes a telephone call to a community leader). [In] [C] [KC2] [KC7]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3" name=""/>
          <p:cNvGraphicFramePr/>
          <p:nvPr/>
        </p:nvGraphicFramePr>
        <p:xfrm>
          <a:off x="324000" y="1197000"/>
          <a:ext cx="8496000" cy="47196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 Identifies and analyses features of written language and visual images when reading and viewing independently, a range of texts about familiar and unfamiliar topic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7 Analyses and evaluates features of written texts and visual images when reading and viewing independently a range of texts dealing with more complex themes and issu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7 Identifies and critically appraises combinations of features in texts when reading and viewing a broad range of texts dealing with abstract themes and socio-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4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used in different social contexts (eg distinguishes between technical nouns in reports and abstract nouns in expositions)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discusses the interaction of visual images and written text in magazine advertisements) [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the way verbs and verb groups can be used to describe the thoughts and feelings of characters in storie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and uses expressive aspects of language (eg reads short stories expressively drawing on punctuation marks such as commas, colons and speech marks). [T]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identifies different choices and strategies for event sequences, nominalisation and speech representation in news items from different media) [KC1]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identifies features such as camera angles and shot size in film segments, and discusses their effect on viewer positioning)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discusses the effect of choices for modality such as ‘may’ vs ‘will’ in creation of point of view in argumentative essay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dialogue in scripted plays expressively by varying pace, volume and intonation). [In]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discusses the representation of non-standard and standard Australian English in scripted drama, novels and short stories with abstract themes, diverse values and from different eras) [F]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ultimodal texts (eg evaluates effectiveness of choice and placement of images and verbal text in webpages)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ext organisation (eg discusses patterns of layout and language use in tourist brochures, news reports and procedure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nalyses and interprets grammatical resources in written texts (eg discusses a writer’s use of nominalisation to suggest that a viewpoint is definitiv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scripted drama expressively to create characterisation through voice quality, rhythm, pace, volume and intonation).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5"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8 Selects and uses a variety of language aspects when planning and composing a range of well-structured fiction, factual and media texts about familiar, new and possible experience.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8 Controls and adjusts most aspects of language when planning and composing an extensive range of written and multimedia texts on different themes and issues. [T] [C] [KC3] [KC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 Manipulates and critically appraises language choices when planning and composing a comprehensive range of texts dealing with abstract themes and 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uses a variety of language choices in texts (eg uses direct and indirect speech in a news item to source information, and reorders the sequence of events to give prominence to the crisi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 webpage for an environmental group)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identifies strategies for forming words in English - base and affixes different patterns of inflection of words in English).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employs a variety of language choices in texts (eg uses direct and indirect speech appropriately in narratives and news report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nd evaluates magazine advertisements using knowledge of features such as layout, composition and colour)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uses accurately technical words derived from ancient Latin and Greek)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velops their process for the collection and documentation of evidence that identifies personal skills, abilities and attributes. [Id]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and uses a variety of language choices in texts (eg scripts dialogue for a television drama about young people, drawing on knowledge of different styles and accents in Australian English) [In] [C]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plans and produces a script for a television, radio or stage play; creates an interactive webpage)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expressive aspects of language (eg employs appropriate prose rhythms in different genres-natural prose rhythms in a first person narrative, up-beat rhythms in a popular music program).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rst some </a:t>
            </a:r>
            <a:r>
              <a:rPr b="1" lang="en-AU" sz="2800" spc="-1" strike="noStrike">
                <a:solidFill>
                  <a:srgbClr val="ff0066"/>
                </a:solidFill>
                <a:latin typeface="Arial"/>
              </a:rPr>
              <a:t>Etymology</a:t>
            </a:r>
            <a:r>
              <a:rPr b="1" lang="en-AU" sz="2800" spc="-1" strike="noStrike" u="sng">
                <a:solidFill>
                  <a:srgbClr val="ff0066"/>
                </a:solidFill>
                <a:uFillTx/>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558f7d"/>
                </a:solidFill>
                <a:latin typeface="Arial"/>
              </a:rPr>
              <a:t>(Etymology is the study of the history of words, their origins, and how their form and meaning have changed over time)</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d you know tha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ord originates from Greek — </a:t>
            </a:r>
            <a:r>
              <a:rPr b="1" i="1" lang="en-AU" sz="2800" spc="-1" strike="noStrike">
                <a:solidFill>
                  <a:srgbClr val="000000"/>
                </a:solidFill>
                <a:latin typeface="Arial"/>
              </a:rPr>
              <a:t>graphein</a:t>
            </a:r>
            <a:r>
              <a:rPr b="1" lang="en-AU" sz="2800" spc="-1" strike="noStrike">
                <a:solidFill>
                  <a:srgbClr val="000000"/>
                </a:solidFill>
                <a:latin typeface="Arial"/>
              </a:rPr>
              <a:t> — meaning "to writ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raffiti and graffito are from the Italian word </a:t>
            </a:r>
            <a:r>
              <a:rPr b="1" i="1" lang="en-AU" sz="2800" spc="-1" strike="noStrike">
                <a:solidFill>
                  <a:srgbClr val="000000"/>
                </a:solidFill>
                <a:latin typeface="Arial"/>
              </a:rPr>
              <a:t>graffiato</a:t>
            </a:r>
            <a:r>
              <a:rPr b="1" lang="en-AU" sz="2800" spc="-1" strike="noStrike">
                <a:solidFill>
                  <a:srgbClr val="000000"/>
                </a:solidFill>
                <a:latin typeface="Arial"/>
              </a:rPr>
              <a:t> ("scratched").</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7"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1 Selects and uses a variety of strategies for locating and recording information and for reading, viewing and critically interpreting a range of written and visual texts. [F] [Id] [T] [C] [KC1] [KC2]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1 Controls, adjusts and compares a variety of strategies for locating and recording information and for reading, viewing and critically interpreting written and visual texts for specific purposes. [T] [C] [KC1] [KC2]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11 Manipulates and synthesises a wide variety of strategies for reading, viewing, critically interpreting and reflecting on texts with multiple levels of meaning. [T] [C] [KC1]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based on personal interest, author, topic, vocabulary) [Id]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ubstantiates predictions, reads on when dealing with difficult passage, substitutes familiar word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personal journal, gives ratings for films and videos)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rategically evaluates usefulness of information sources (eg uses an author’s webpage to evaluate information about becoming an editor). [F] [T] [KC1] [KC6]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for analysis and comparison (eg television programs such as quiz shows, news, travel, soaps) [Id]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extracts information from databases and statistical tables, automatically self-corrects, uses knowledge about setting to understand theme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reviews sections of texts, discusses findings, keeps a reading log)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information sources and strategies for collecting information (eg uses Electronic Library to evaluate information about employment). [F]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uses library database, recommendations from peers and teacher)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kim reads, refers to dictionary, discusses with another person, re-reads/reviews sections, compares and interrogates texts, questions view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journal to record different meanings of text, makes notes and lists, bookmarks sections for review)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electronic information sources.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63520" y="1598760"/>
            <a:ext cx="7386480" cy="4497120"/>
          </a:xfrm>
          <a:prstGeom prst="rect">
            <a:avLst/>
          </a:prstGeom>
          <a:ln w="0">
            <a:noFill/>
          </a:ln>
        </p:spPr>
      </p:pic>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44" name=""/>
          <p:cNvSpPr/>
          <p:nvPr/>
        </p:nvSpPr>
        <p:spPr>
          <a:xfrm>
            <a:off x="46836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u="sng">
                <a:solidFill>
                  <a:srgbClr val="c1c177"/>
                </a:solidFill>
                <a:uFillTx/>
                <a:latin typeface="Arial"/>
                <a:hlinkClick r:id="rId2"/>
              </a:rPr>
              <a:t>http://newsletter.kokodatreks.com/007-january_2008.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95280" y="1196640"/>
            <a:ext cx="706752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me 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ustralia, Aboriginal people practised a type of graffiti, known as rock pain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a form of communication to tell their stor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etched in the rock with a tool, others were created using paints made from plants and types of minerals found in rocks.  </a:t>
            </a:r>
            <a:endParaRPr b="0" lang="en-US" sz="3200" spc="-1" strike="noStrike">
              <a:solidFill>
                <a:srgbClr val="000000"/>
              </a:solidFill>
              <a:latin typeface="Arial"/>
            </a:endParaRPr>
          </a:p>
        </p:txBody>
      </p:sp>
      <p:sp>
        <p:nvSpPr>
          <p:cNvPr id="24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48" name="" descr=""/>
          <p:cNvPicPr/>
          <p:nvPr/>
        </p:nvPicPr>
        <p:blipFill>
          <a:blip r:embed="rId1"/>
          <a:stretch/>
        </p:blipFill>
        <p:spPr>
          <a:xfrm>
            <a:off x="263520" y="1598760"/>
            <a:ext cx="7386480" cy="4497120"/>
          </a:xfrm>
          <a:prstGeom prst="rect">
            <a:avLst/>
          </a:prstGeom>
          <a:ln w="0">
            <a:noFill/>
          </a:ln>
        </p:spPr>
      </p:pic>
      <p:sp>
        <p:nvSpPr>
          <p:cNvPr id="249" name=""/>
          <p:cNvSpPr/>
          <p:nvPr/>
        </p:nvSpPr>
        <p:spPr>
          <a:xfrm>
            <a:off x="611280" y="6370560"/>
            <a:ext cx="7777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graffiti-art-on-trains.blogspot.com/2009/06/5-pointz.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odern da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paint, normal paint and markers have become the most commonly used materials in the art of Graffiti.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untries, defacing property with graffiti without the property owner's consent is considered vandalism, which is punishable by law. </a:t>
            </a:r>
            <a:endParaRPr b="0" lang="en-US" sz="3200" spc="-1" strike="noStrike">
              <a:solidFill>
                <a:srgbClr val="000000"/>
              </a:solidFill>
              <a:latin typeface="Arial"/>
            </a:endParaRPr>
          </a:p>
        </p:txBody>
      </p:sp>
      <p:sp>
        <p:nvSpPr>
          <p:cNvPr id="25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some articles about graffiti:</a:t>
            </a:r>
            <a:endParaRPr b="0" lang="en-US" sz="3200" spc="-1" strike="noStrike">
              <a:solidFill>
                <a:srgbClr val="0000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urts</a:t>
            </a:r>
            <a:endParaRPr b="0" lang="en-US" sz="28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on Reckless Graffiti</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54" name="" descr=""/>
          <p:cNvPicPr/>
          <p:nvPr/>
        </p:nvPicPr>
        <p:blipFill>
          <a:blip r:embed="rId3"/>
          <a:stretch/>
        </p:blipFill>
        <p:spPr>
          <a:xfrm>
            <a:off x="755640" y="3933720"/>
            <a:ext cx="1714680" cy="1714680"/>
          </a:xfrm>
          <a:prstGeom prst="rect">
            <a:avLst/>
          </a:prstGeom>
          <a:ln w="0">
            <a:noFill/>
          </a:ln>
        </p:spPr>
      </p:pic>
      <p:sp>
        <p:nvSpPr>
          <p:cNvPr id="255" name=""/>
          <p:cNvSpPr/>
          <p:nvPr/>
        </p:nvSpPr>
        <p:spPr>
          <a:xfrm>
            <a:off x="2627280" y="4005360"/>
            <a:ext cx="4969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ith your pe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agree with these articles or not?</a:t>
            </a:r>
            <a:br>
              <a:rPr sz="2400"/>
            </a:br>
            <a:r>
              <a:rPr b="0" lang="en-US" sz="2400" spc="-1" strike="noStrike">
                <a:solidFill>
                  <a:srgbClr val="000000"/>
                </a:solidFill>
                <a:latin typeface="Arial"/>
              </a:rPr>
              <a:t>Justify why you think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04:08:03Z</dcterms:created>
  <dc:creator>YoungJe</dc:creator>
  <dc:description/>
  <dc:language>en-US</dc:language>
  <cp:lastModifiedBy>YoungJe</cp:lastModifiedBy>
  <dcterms:modified xsi:type="dcterms:W3CDTF">2011-07-26T02:04:19Z</dcterms:modified>
  <cp:revision>77</cp:revision>
  <dc:subject/>
  <dc:title>Slide 1</dc:title>
</cp:coreProperties>
</file>